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801BF-3DE6-4C52-AEAF-599AB6209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A296B-ECA5-47CB-A517-5F76799EC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76C7C-60DA-43F5-BB08-0A0F1109F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7EDEC-0B69-4D50-A7DB-6B5CEC4D5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C6B1A-0DE8-40EA-B889-AAE7E3285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0492D-EB09-4B86-8E66-5A29AD674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5F4B4-9714-4B2F-9D52-0DDCF0718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2A261-7C6C-4F98-ACA2-954557DAB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99667-E80C-436F-A19A-75625E6EE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DAB5F-F689-45CD-B2FD-C9E5BA7AE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3A236-D1FC-4438-887F-E8BFC362B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92017-7CB3-4F83-AEF3-B5A5DCFCF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FEB0-3653-4818-B34C-8D0B51E52A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WQvFOa43Nr0"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295280" y="144360"/>
            <a:ext cx="7086600" cy="5189760"/>
          </a:xfrm>
          <a:prstGeom prst="rect">
            <a:avLst/>
          </a:prstGeom>
          <a:ln w="0">
            <a:noFill/>
          </a:ln>
        </p:spPr>
      </p:pic>
      <p:sp>
        <p:nvSpPr>
          <p:cNvPr id="42" name="PlaceHolder 1"/>
          <p:cNvSpPr>
            <a:spLocks noGrp="1"/>
          </p:cNvSpPr>
          <p:nvPr>
            <p:ph type="subTitle"/>
          </p:nvPr>
        </p:nvSpPr>
        <p:spPr>
          <a:xfrm>
            <a:off x="1371600" y="5562720"/>
            <a:ext cx="6400800" cy="914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la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a Empire Legends</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as never invented the wheel, so they had no wheeled vehicles. They did not have horses or cows. High in the Andes, the llama was a most important animal. The llama was used for transportation. It provided the Incas with wool and food. So it's understandable that many Incan legends and myths were about llamas.</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5" name="" descr=""/>
          <p:cNvPicPr/>
          <p:nvPr/>
        </p:nvPicPr>
        <p:blipFill>
          <a:blip r:embed="rId1"/>
          <a:stretch/>
        </p:blipFill>
        <p:spPr>
          <a:xfrm>
            <a:off x="2971800" y="4572000"/>
            <a:ext cx="2895480" cy="21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od Story</a:t>
            </a:r>
            <a:br>
              <a:rPr sz="2000"/>
            </a:br>
            <a:r>
              <a:rPr b="1" lang="en-US" sz="2000" spc="-1" strike="noStrike">
                <a:solidFill>
                  <a:srgbClr val="000000"/>
                </a:solidFill>
                <a:latin typeface="Arial"/>
              </a:rPr>
              <a:t>(loosely based on an Incan myth)</a:t>
            </a:r>
            <a:br>
              <a:rPr sz="2000"/>
            </a:br>
            <a:endParaRPr b="0" lang="en-US" sz="2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one time, people became very evil. They were so busy doing evil deeds that they neglected the gods. Only those in the high Andes mountains were honest and tru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ne day, two brothers who lived in the high Andes mountains noticed their llamas were acting strangely. They asked the llamas why they were staring up at the sky. The llamas answered that they were told by the stars that a great flood was coming. The brothers believed the llamas. They moved their families and flocks into a cave they found on the highest mountai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t began to rain. The rain continued for four months and four days. At last the rain stopped. The water receded. The brothers and their families repopulated the earth.</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llamas were most grateful to the stars for warning them about the flood. That is why llamas prefer to live on the mountain tops, safe from floods, and near their friends, the star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ing Facts about Llama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 of the camel fami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4ft tall, 4ft long, up to 300 lb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travel long distances without wa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arry up to 100 lb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travel 6 miles per day in mountainous are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ground can run faster than a hor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e to be stared at-otherwise might spit in your f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incas.mrdonn.org/llamalegends.html</a:t>
            </a:r>
            <a:endParaRPr b="0" lang="en-US" sz="1200" spc="-1" strike="noStrike">
              <a:solidFill>
                <a:srgbClr val="000000"/>
              </a:solidFill>
              <a:latin typeface="Arial"/>
            </a:endParaRPr>
          </a:p>
        </p:txBody>
      </p:sp>
      <p:pic>
        <p:nvPicPr>
          <p:cNvPr id="50" name="" descr=""/>
          <p:cNvPicPr/>
          <p:nvPr/>
        </p:nvPicPr>
        <p:blipFill>
          <a:blip r:embed="rId1"/>
          <a:stretch/>
        </p:blipFill>
        <p:spPr>
          <a:xfrm>
            <a:off x="6781680" y="1143000"/>
            <a:ext cx="1874880" cy="23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make a Llama out of paper:</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WQvFOa43Nr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2"/>
          <a:stretch/>
        </p:blipFill>
        <p:spPr>
          <a:xfrm>
            <a:off x="3414600" y="2438280"/>
            <a:ext cx="4891320" cy="418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ake s square from an A4 she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old square in ha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Fold two sides into middle of the squ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one end fold corners in/unfol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 Fold the two sloping edges (at the top) down to the line which the corners on the inside form. Repeat on both sides. Then fold in half to form the he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Continue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Fold the (one piece) triangle to make the he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While holding the one piece triangle, fold the square in half with head sticking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Fold in the end of nose to make it a Llama sha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Fold the paper in on itself to make the Llama’s bo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the two separate pieces of paper to construct the legs (hint-wider legs will make the Llama more s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4T03:20:39Z</dcterms:created>
  <dc:creator>Owner</dc:creator>
  <dc:description/>
  <dc:language>en-US</dc:language>
  <cp:lastModifiedBy>Owner</cp:lastModifiedBy>
  <dcterms:modified xsi:type="dcterms:W3CDTF">2011-11-25T17:16:11Z</dcterms:modified>
  <cp:revision>3</cp:revision>
  <dc:subject/>
  <dc:title>Slide 1</dc:title>
</cp:coreProperties>
</file>